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BF72-396C-4E8C-9B55-946C561E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F67-7CD8-4CFA-94E8-9B8F16C6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5E48-10AC-4B56-8B23-A618E39A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12F8-767D-480B-8442-B9978007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7EB7-3C47-4BA1-915E-B7249878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26C-6BDE-4783-B4BB-224967C5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C669-DEA1-426C-8960-3EC845DC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526-9BE5-4785-9120-9DA0276D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90F1-A6D0-45EF-8070-CE4336CE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E6EC-4C24-48C3-B771-4B83956E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B68F-F011-4DBE-82F7-E2998C21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433F-0275-4F9C-B7F5-3DF1EBE7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62CD-6572-4C6F-B3D2-DA195D985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880" y="21337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ја новорођенч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бе ОС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12600" y="685800"/>
            <a:ext cx="356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ЗИТЕТ У КРАГУЈЕВ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ТЕТ МЕДИЦИНСКИХ НАУ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5527800" y="679320"/>
            <a:ext cx="290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ULTY OF MEDICAL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45" name="Subtitle 2"/>
          <p:cNvSpPr/>
          <p:nvPr/>
        </p:nvSpPr>
        <p:spPr>
          <a:xfrm>
            <a:off x="2987640" y="5013360"/>
            <a:ext cx="5716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гана Сави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 НН у ОИН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ра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а (неинфективна) НН морају бити одвојена од болесних- кадровски и простор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 рођена ван болнице хоспитализују се минимум 7 дана у изолациј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 са инфекцијом (сумња/потврђена) мора се изолова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 НН у ОИН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 се у купа под млазом воде, не у кад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 приласка сваком новорођенчету, лекар и сестра стављају маске и перу ру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ине се отварају лакт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препорук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једној соби највише 12 Н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а сестра максимално може неговати 12 Н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Y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женско новорођенч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ен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.yy.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.године у 02:35 ча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љен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.yy.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.године у 07:55 ча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наруквице: 7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ућено из регионалног породилишта у пратњи педијатра и мед.сест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г хоспитализације: респираторно погорш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а анамнез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 дете из неконтролисане трудноћ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М=128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, PTD=41cm, POG=27c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гар скор 4/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С 39 недељ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а анамнез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 завршен природним пу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ва вода зеле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ви овојци прокинути непосредно пред порођај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дична анамнез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неконтролисана трудноћ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трудноће мајка је била здрава. Прва трудноћа завршена пре 11 месец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 мајке ``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`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D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(позитивн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 података везаних за наслеђ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ашња болест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преглед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трофично, слабије плаче, глава издужена, намрштен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 мрко- ружичаста, смежурана, акре ливид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ус снижен, рефлекси се не изазивају, потом назнач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ције напорније, са нискотонским визинг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 над срцем уред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преглед- у бо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тено у изолет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тор за кисеоник са 3, а затим и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/m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е сатурације кисеоником и срчане радњ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не анализе: указују на ацидоз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хипокликемиј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золети ружичасто, присутне спонтане моторике, развија тахипнеу, Р=80/м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: и.в.рехидрација, иницијална А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amecil, Amicacin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итамин К. Вакцине није прими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ијему у ОИ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олошки обрађе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золети, са додатним О2- шато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: АБ (исти), а од 2-ог да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onem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бог 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не анализе при пријему: ацидоз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гликемиј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5mmol/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ЦНСа- Изражене хиперехогености. Коморе у физиолошким границ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срца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 u fossi oval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г плућа: Указује на пнеумонију при пријему ...Контролни налаз уреда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 од узраста НН, нега се спроводи на више ни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епосрено збрињавање- нега у породилиш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прегле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га на одељењу ОИ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га здравог НН у кућним услов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аљем току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не анализе: у границама рефернтних вред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сана гликемија 5,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l/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ишене вредности билирубина –Фото терапија 4 са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=109g/l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С депл.Е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УЗР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е за 39Г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женско НН предвиђају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М →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5: 2800g, p50: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5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, p95: 3947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Д →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5: 48cm, p50:50cm, p95: 53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М=128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, PTD=41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ључак: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 рођено у термину са ИУЗ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8088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 у породилишту- основном збрињавањ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преглед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ватање 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ецање пупчан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: 5- 10 минута од рођењ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јно: кад престану пупчане пулз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штипаљком,стерилном трачицом,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у строго асептичним услови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и патрљак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уши се за 3- 4 да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а за 1 недељу и оставља ран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сте за 2 неде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 друго: крварење, влажење, ...- захтева лечењ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другог прегледа до отпуста из породилишта (2-3 дана)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одневна обрада пупка антисептик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ње и нега кож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ининг тестови: Гатријев тест, УЗ ЦНСа, скрининг слуха, скрининг на РОП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у очи- превенција гонороичне инфекци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 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0492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тпусту НН...лекар израђује отпусну листу која садрж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 и презиме мајке НН и по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наруквиц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ум и тачно време рођења (значајно..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М/ОГ/ОГ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трудноће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жава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 мај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трудноће (порођаја) по ред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ва в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и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ци везани за наслеђ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исани резултати скрининг тестов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и остали физикални преглед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7T08:58:42Z</dcterms:created>
  <dc:creator>Miki</dc:creator>
  <dc:description/>
  <dc:language>en-US</dc:language>
  <cp:lastModifiedBy>Miki</cp:lastModifiedBy>
  <dcterms:modified xsi:type="dcterms:W3CDTF">2020-09-29T15:18:24Z</dcterms:modified>
  <cp:revision>50</cp:revision>
  <dc:subject/>
  <dc:title>PowerPoint Presentation</dc:title>
</cp:coreProperties>
</file>