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5ECA-A626-43B8-89A1-C2165F46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5481-3316-4EA2-81DB-1637A60A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804-9107-4699-9A0E-1E992FEB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517-F1B9-425F-8E7A-F929E282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AA1-9BB5-4929-A5FA-03197B47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0FF-F831-4808-BFED-0EC21FE0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A9F-D97F-47AB-B2D2-7848043E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BA1-01AA-47BF-ABA1-2359D2B1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193-65DD-4BD8-80E4-C87722C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C9B-6178-40CE-8BB0-13C0E088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D87-CD87-4001-8712-0D4A03E6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F37-3CFC-4735-882E-BD169A6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C2E-6A9B-4B9B-A582-F6FC99E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D69-B996-46E8-9C5A-5A88D23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F524-0D6F-47E4-8152-8AAE9FD6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/imgres?imgurl=http://www.pathguy.com/sol/03467.jpg&amp;imgrefurl=http://www.pathguy.com/lectures/heart.htm&amp;usg=__3BV3kSgeji5YpiaMcTxzUqRltvo=&amp;h=564&amp;w=1000&amp;sz=115&amp;hl=en&amp;start=7&amp;sig2=cGrnr6lxG5ijOHeKFYHDgg&amp;zoom=1&amp;tbnid=5wxzdabzY6VQLM:&amp;tbnh=84&amp;tbnw=149&amp;ei=U-7hTe7OBIvysgbz353dBQ&amp;prev=/search%3Fq%3DHistology%2Bof%2Bthe%2Bpatent%2Bductus%2Barteriosus%26hl%3Den%26sa%3DX%26gbv%3D2%26tbm%3Disch&amp;itbs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ДИОЛИ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Ј. Кнеж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28600" y="879480"/>
            <a:ext cx="54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33520" y="1336680"/>
            <a:ext cx="391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971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410080" cy="3316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69000" y="1146240"/>
            <a:ext cx="733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SD-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atofizi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L-D š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gt; Protok kroz plu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eličina šanta zavisi 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eličine def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lativne komplijansa D i L komore (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lativna vaskul. rezist. plućne i sistemske cirkul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94160" y="5943600"/>
            <a:ext cx="39283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Qp:Qs 2:1 do 4:1-veliki def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83840" y="7952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SD  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441972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174840" y="1828800"/>
            <a:ext cx="390240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68560" y="2722680"/>
            <a:ext cx="3301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b inlet (AV 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 trab- tipičan me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b inf (T Fall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inlet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trabekularni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infunib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subarterijski infund suprakr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Crno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- membranozni 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7000" y="544212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embranoz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išić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D DIJ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84200" y="2090880"/>
            <a:ext cx="572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655640" y="2514600"/>
          <a:ext cx="5830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514600"/>
                    <a:ext cx="5830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nat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ig05"/>
          <p:cNvPicPr/>
          <p:nvPr/>
        </p:nvPicPr>
        <p:blipFill>
          <a:blip r:embed="rId1"/>
          <a:stretch/>
        </p:blipFill>
        <p:spPr>
          <a:xfrm>
            <a:off x="762120" y="4114800"/>
            <a:ext cx="2790720" cy="225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atent-Ductus-Arteriosus-PDA"/>
          <p:cNvPicPr/>
          <p:nvPr/>
        </p:nvPicPr>
        <p:blipFill>
          <a:blip r:embed="rId2"/>
          <a:stretch/>
        </p:blipFill>
        <p:spPr>
          <a:xfrm>
            <a:off x="4038480" y="3352680"/>
            <a:ext cx="3295800" cy="3265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a0570089f06"/>
          <p:cNvPicPr/>
          <p:nvPr/>
        </p:nvPicPr>
        <p:blipFill>
          <a:blip r:embed="rId3"/>
          <a:stretch/>
        </p:blipFill>
        <p:spPr>
          <a:xfrm>
            <a:off x="838080" y="1295280"/>
            <a:ext cx="2895840" cy="2621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Nd9GcRh6ZaGCMgHelFIZ4Mti-OH9WcJ_iECJGKaiA6EftomjS9aL_SrNLmahe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371600"/>
            <a:ext cx="31716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552760" y="1728720"/>
          <a:ext cx="40384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1728720"/>
                    <a:ext cx="4038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tralogia F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iroka, jašuća, dextropinirana i anteponirana 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baortni 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potpuna opstrukcija RVOT (infundibularna steno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ipertrofija desne ko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ORTNA STENO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% SVIH U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2% odrasl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:Ž=4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JČEŠĆE VALVUL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RUŽENE –MV, ao luk, VSD,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BROELASTOZA-kritična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689880" y="1949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ortic Stenosis Diagram - Bicuspid Heart Valve"/>
          <p:cNvPicPr/>
          <p:nvPr/>
        </p:nvPicPr>
        <p:blipFill>
          <a:blip r:embed="rId1"/>
          <a:stretch/>
        </p:blipFill>
        <p:spPr>
          <a:xfrm>
            <a:off x="6724800" y="1447920"/>
            <a:ext cx="24192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OGEN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MODINAMSKA HIPOTEZ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TOPIČNO DUKTALNO TKIVO-zatvranje DAP-razvija 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251240" y="376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4648320" y="2438280"/>
          <a:ext cx="40384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038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716864-fig1"/>
          <p:cNvPicPr/>
          <p:nvPr/>
        </p:nvPicPr>
        <p:blipFill>
          <a:blip r:embed="rId1"/>
          <a:stretch/>
        </p:blipFill>
        <p:spPr>
          <a:xfrm>
            <a:off x="3429000" y="609480"/>
            <a:ext cx="5477040" cy="4772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850920" y="5851440"/>
            <a:ext cx="4973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evalence of prehypertension and hypertension in the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etween 1988 and 2006 among children aged 8-17 yea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from Ostchega, Y. </a:t>
            </a: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et 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ends of elevated blood pressure among children and adolesc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from the National Health and Nutrition Examination Survey 1988-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Am. J. Hypertens.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2, 59-67 (2009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5040" y="1098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hildren_with_obesity_high_blood_pressure_diabetes_and_high_cholesterol"/>
          <p:cNvPicPr/>
          <p:nvPr/>
        </p:nvPicPr>
        <p:blipFill>
          <a:blip r:embed="rId2"/>
          <a:stretch/>
        </p:blipFill>
        <p:spPr>
          <a:xfrm>
            <a:off x="380880" y="762120"/>
            <a:ext cx="2590920" cy="1987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41360" y="3384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65040" y="3156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0" y="3079800"/>
            <a:ext cx="3243240" cy="37530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USM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Epileps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ija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3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DHD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         3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H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perten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zija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4 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sthma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Gojaznost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18-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goritam za dijagnozu hipertenz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78000" y="1649520"/>
            <a:ext cx="71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07440" y="2209680"/>
            <a:ext cx="21038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SKP i/ili DK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62080" y="274320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56840" y="3581280"/>
            <a:ext cx="9471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48800" y="4572000"/>
            <a:ext cx="2312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Norm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943600" y="32767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118200" y="342108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352840" y="3124080"/>
            <a:ext cx="10324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644360" y="3809880"/>
            <a:ext cx="2843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onoviti mer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052520" y="426708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567600" y="5029200"/>
            <a:ext cx="887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356080" y="4876920"/>
            <a:ext cx="11530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-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377840" y="4800600"/>
            <a:ext cx="887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375000" y="56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958480" y="5867280"/>
            <a:ext cx="2312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Norm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139000" y="5410080"/>
            <a:ext cx="15933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aćenje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6934320" y="5257800"/>
            <a:ext cx="18288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Hiper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132520" y="6035760"/>
            <a:ext cx="15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onov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mer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879960" y="5670720"/>
            <a:ext cx="17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Evalu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Etiolog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Ošteć.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1905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58672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H="1">
            <a:off x="3962160" y="4724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76201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71500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ETALNA CIRKUL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G0000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ntihipertenzivni le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C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RB- antagonisti angiotenzin recep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ta blokatori 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lcijumski antagonisti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uretici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67840" y="176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9880" y="8380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isok-normalan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719520" y="7984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iperten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29560" y="722160"/>
            <a:ext cx="22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te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na k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655360" y="1865160"/>
            <a:ext cx="37789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edano ili više nabrojanih s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ptomat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kund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štećenje ciljnih org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197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78240" y="4379760"/>
            <a:ext cx="278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farmakološki tre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95880" y="4191120"/>
            <a:ext cx="1730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armakološ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ap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600200" y="12952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8195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449568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70707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754380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310800" y="3541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678168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19600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 flipH="1">
            <a:off x="18288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66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PRAVENTRIKULARNA TAHIKAR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09520" y="2284560"/>
            <a:ext cx="69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295280" y="2286000"/>
          <a:ext cx="7543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7543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575360" y="4079880"/>
            <a:ext cx="731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mpuls iz supraventrikularnog pejsmejkera F 150-250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znad bifur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 talas može biti pozitivan i stopljen sa prethodni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li je prekriven QRS ne razlikuje se od atrijalne T i junk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QRS &lt; 0,11 sec, širok povremeno R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agusna stimulacija može imati efekta (ili 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ETMAN SV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mulacija Vagusa-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lsava manev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ilni-Adenosin, phenilephrin, tensilon, quinidin, procainamid, propranolol, verapamil(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g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kardioverzija 0,5-2 J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PW-(ne digoxin i verapamil)-amiod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NOZ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GENI NUKLEO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VODI DO AV BLOKA I BLOKA AKCESORNOG P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TMAN 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ATAK POL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IVOT (10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A KUBITALNA 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LUS 3-5 ml FIZIOLOŠK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ZA LEKA 0,1 mg/k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UGA PONOVLJENA DOZA JE ZA 0,05 mg/kg VEĆA DO MAX DOZE OD 0,25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fekat vidljiv za 7-2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oza može biti duplo veća do max 300μg/k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li adultna doza od 6-12 m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O JE BEZ EFEKTA ZA PAR MINUTA DATI INDERAL 0,05-0,1 mg/kg SPORO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O JE NAPAD UPORAN -ELEKTROKARDIOVER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0707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10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F / VT BEZ PULSA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ŠOKABILNI RITAM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Tahoma"/>
              </a:rPr>
              <a:t>-ređ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24360" y="2276640"/>
            <a:ext cx="4859280" cy="419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EKTR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Š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J k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PR -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 ELEKTR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PR - 2 M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(4H,4T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DREN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II ELEKTRO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PR -2 M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MIODARON-5mg/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V ELEKTRO 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RENALIN NA 3-5 MI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ŠOK I 2 MIN K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IODARON KONTINU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89080" y="247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VF1"/>
          <p:cNvPicPr/>
          <p:nvPr/>
        </p:nvPicPr>
        <p:blipFill>
          <a:blip r:embed="rId1"/>
          <a:stretch/>
        </p:blipFill>
        <p:spPr>
          <a:xfrm>
            <a:off x="304920" y="2362320"/>
            <a:ext cx="3438360" cy="1904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12760" y="4070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VT1"/>
          <p:cNvPicPr/>
          <p:nvPr/>
        </p:nvPicPr>
        <p:blipFill>
          <a:blip r:embed="rId2"/>
          <a:stretch/>
        </p:blipFill>
        <p:spPr>
          <a:xfrm>
            <a:off x="304920" y="457200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365040" y="56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209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LINIČKE MANIFESTAC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LONGIRANA FEBRILNOST (blagi simptomi nekoliko meseci), bez drugih simptoma (sem gubitka na TT-Streptococcus 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ada nagli početak sa t intermitentnom i prostr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specifični simptomi :malgija, artralgija, glavobolja, popodnevna t,muka, povrać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vi šum ili izmenjen stari i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lenomegalija i petehije-č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NS- insultl, absces, mikotična aneurizma, hemoragija, -meningizam, izmena senz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Stafilokoka miokardni apsces-oštećenje sprovodnog sistema-ruptura u peri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lerovi čvorići-vaskulitis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EVENCIJA 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90720"/>
          <a:ext cx="8229600" cy="534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ale i oralne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 i GUT-visok riz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icillin 50 mg kg, 2 g , 1h pre po ili (im , iv-30 min p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icilin iv ili im 2 g, 50 mg/k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amycin iv ili im  1,5 mg kg(120mg) 30 min pre i 6 h pos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damycin oralno(alergija na amoxicillin) 20mg kg, 600 mg 1h pre 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faleksin oralno 50 mg kg, 2g, 1 sat pre 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romycin 15mg/kg,500mg 1h p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-visok rizik:Vancomycin 20mg kg (1g odra) tokom1-2h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tamycin iv im (max 120 mg) infuzija koja počinje 30 min pre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KUTNI PERIKARDITIS’ patofiziolo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ikardna inflamacija vodi do nakupljanja tečnosti u perikardni pro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čnost zavisno od uzročnika može biti:serozna, fibrinozna, purulentna ili hemorag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tamponade tečnost kompromituje srča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zdrave dece imamo 10-15 ml tečnosti u perikar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romitovano punjenje komora u dijastoli, povećan sistemski i plućni venski pritisak-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ERIKARDITIS 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60680" y="2381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5"/>
          <p:cNvGraphicFramePr/>
          <p:nvPr/>
        </p:nvGraphicFramePr>
        <p:xfrm>
          <a:off x="2057400" y="2647800"/>
          <a:ext cx="502920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47800"/>
                    <a:ext cx="502920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9b_KreislaufnachA"/>
          <p:cNvPicPr/>
          <p:nvPr/>
        </p:nvPicPr>
        <p:blipFill>
          <a:blip r:embed="rId1"/>
          <a:stretch/>
        </p:blipFill>
        <p:spPr>
          <a:xfrm>
            <a:off x="1397160" y="0"/>
            <a:ext cx="63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O NALA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08040" y="2457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819520" y="1523880"/>
          <a:ext cx="5105160" cy="46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510516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ERIKARDITIS leč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587320" y="2286000"/>
            <a:ext cx="3967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URULEN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ntibiotici 4-6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IR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BUPROF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HLICIN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RTIKOSTEROI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IOCAR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lamacija, nekroza ili miocit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ekcija, toksini, bolesti vezivnog tkiva, granulomatoza, idiopat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okard sa ili bez sistemskih manifes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češće ide sa SI, aritmijama i iznenadnom smr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usni najčeš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višen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janoza, udaljeni srčani ton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bi puls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hikardijaveća u odnosu na febr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tralna insuficijencija-dilatacija s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tam gal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848200" y="2251080"/>
            <a:ext cx="25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rusni hep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septični menig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758320" y="6095880"/>
            <a:ext cx="429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mrt unutar 1-7 dana-fulminan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IOKARDITIS dijagno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52480" y="1619280"/>
            <a:ext cx="6838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ormalan, dilatacija sr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luća normalna ili kongest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KG (česte ali nespecifič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inusna tahikard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ikrovol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mene u ST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ranzitorni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lika infar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ritmije-prvi znak+veliko srce +t-miok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410080" y="2133720"/>
            <a:ext cx="400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remećaji sprovođ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KO PERZISTIRA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KAZUJU NA FIBROZ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LEČ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rdiogeni šok-Dopamin, Epinefrin, Milri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oxin-oprez-pola d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ricardiocentesis-kod tamp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iodaron kod arit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CMO-ekstrakorporalna membranska oksigenacija-kardiogeni š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sist device LV –refrakterna SI-transplantacija s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UNOGLOBULINI-2g na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tikosteroidi-prednison 2mg kg d-nastaviti 0,3 mg 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 me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TIVIRUSNA TERAPIJA-Entero-Pleconaril, EB virus- acyclo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UZROCI SI KOD D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12720" y="5029200"/>
            <a:ext cx="2651040" cy="1618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OREMECAJI RIT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 blok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V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funkcija SA c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06520" y="1905120"/>
            <a:ext cx="3686040" cy="1923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OPTERECENJE VOLUME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M (VSD,PDA, AR, M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mpleksna u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emija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reotoksik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6640" y="3962520"/>
            <a:ext cx="3375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OPTERECENJE PRITIS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M (AS, PS, Co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perten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713120" y="2362320"/>
            <a:ext cx="3594600" cy="1618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SISTOLNA INSUFICIJ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okar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lat cardiomi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nutri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he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725720" y="4419720"/>
            <a:ext cx="3902400" cy="1313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JASTOLNA INSUFICIJ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pertroficna kardiomiopat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ktivna kardiomiopat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karditis ili tamp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019880" y="21319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138280" y="2055960"/>
            <a:ext cx="13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 flipV="1">
            <a:off x="3048120" y="2361600"/>
            <a:ext cx="985680" cy="152280"/>
          </a:xfrm>
          <a:prstGeom prst="leftRightArrow">
            <a:avLst>
              <a:gd name="adj1" fmla="val 50000"/>
              <a:gd name="adj2" fmla="val 1288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58680" y="3233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HR,kontrakt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18800" y="399564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51480" y="47577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ocitna nekr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268000" y="5967360"/>
            <a:ext cx="57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EMECAJ KONTRAKTI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943440" y="31575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Vasokonstri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964680" y="35812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Na/H</a:t>
            </a:r>
            <a:r>
              <a:rPr b="0" lang="en-US" sz="16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O ret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950640" y="38433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Pre-i after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213800" y="47577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ll 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120" y="54435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pertrof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184080" y="4681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opto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 flipH="1">
            <a:off x="114228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112716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 flipH="1">
            <a:off x="1295280" y="365760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050840" y="437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 flipH="1">
            <a:off x="137088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21178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1"/>
          <p:cNvSpPr/>
          <p:nvPr/>
        </p:nvSpPr>
        <p:spPr>
          <a:xfrm flipH="1">
            <a:off x="2513880" y="54100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5468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3"/>
          <p:cNvSpPr/>
          <p:nvPr/>
        </p:nvSpPr>
        <p:spPr>
          <a:xfrm flipH="1">
            <a:off x="556200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632480" y="422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flipH="1">
            <a:off x="487620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86108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7"/>
          <p:cNvSpPr/>
          <p:nvPr/>
        </p:nvSpPr>
        <p:spPr>
          <a:xfrm flipH="1">
            <a:off x="4876200" y="5105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4822920" y="601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9"/>
          <p:cNvSpPr/>
          <p:nvPr/>
        </p:nvSpPr>
        <p:spPr>
          <a:xfrm flipH="1">
            <a:off x="4799880" y="57913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64612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6629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66898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3"/>
          <p:cNvSpPr/>
          <p:nvPr/>
        </p:nvSpPr>
        <p:spPr>
          <a:xfrm flipH="1">
            <a:off x="64764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6172200" y="2743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H="1">
            <a:off x="5638320" y="2743200"/>
            <a:ext cx="3049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6"/>
          <p:cNvSpPr/>
          <p:nvPr/>
        </p:nvSpPr>
        <p:spPr>
          <a:xfrm>
            <a:off x="1981080" y="2666880"/>
            <a:ext cx="2362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7"/>
          <p:cNvSpPr/>
          <p:nvPr/>
        </p:nvSpPr>
        <p:spPr>
          <a:xfrm>
            <a:off x="1600200" y="2819520"/>
            <a:ext cx="14479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8"/>
          <p:cNvSpPr/>
          <p:nvPr/>
        </p:nvSpPr>
        <p:spPr>
          <a:xfrm>
            <a:off x="1905120" y="2743200"/>
            <a:ext cx="25146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9"/>
          <p:cNvSpPr/>
          <p:nvPr/>
        </p:nvSpPr>
        <p:spPr>
          <a:xfrm>
            <a:off x="838080" y="41148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375588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1"/>
          <p:cNvSpPr/>
          <p:nvPr/>
        </p:nvSpPr>
        <p:spPr>
          <a:xfrm>
            <a:off x="3733920" y="40384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2"/>
          <p:cNvSpPr/>
          <p:nvPr/>
        </p:nvSpPr>
        <p:spPr>
          <a:xfrm>
            <a:off x="3946680" y="468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4038480" y="4800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4"/>
          <p:cNvSpPr/>
          <p:nvPr/>
        </p:nvSpPr>
        <p:spPr>
          <a:xfrm>
            <a:off x="746280" y="32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838080" y="33526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7312680" y="205740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7"/>
          <p:cNvSpPr/>
          <p:nvPr/>
        </p:nvSpPr>
        <p:spPr>
          <a:xfrm>
            <a:off x="6781680" y="2209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8"/>
          <p:cNvSpPr/>
          <p:nvPr/>
        </p:nvSpPr>
        <p:spPr>
          <a:xfrm>
            <a:off x="7680240" y="254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9"/>
          <p:cNvSpPr/>
          <p:nvPr/>
        </p:nvSpPr>
        <p:spPr>
          <a:xfrm flipH="1">
            <a:off x="6012000" y="2852640"/>
            <a:ext cx="21333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UROHUMORALNI MEHANIZ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3265920" y="256536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LE</a:t>
            </a: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Č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NJE HRONICNE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71640" y="2490480"/>
            <a:ext cx="728352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krit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(Lasix, Spironolak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E INHIBIT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L-D,MI, AI, dilat. Ca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TROPNI AGENS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Digox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HUMORALNI MODUL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HRA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gastrostoma, ng so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EPORU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8480" y="2895480"/>
            <a:ext cx="432144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na komorska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749480" y="2895480"/>
            <a:ext cx="42282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 komorska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49360" y="3809880"/>
            <a:ext cx="20401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inhib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ur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93920" y="5791320"/>
            <a:ext cx="322884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Digok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Spironolak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4968720" y="3809880"/>
            <a:ext cx="2040120" cy="1557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inhib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igok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iur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082120" y="5791320"/>
            <a:ext cx="348804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Spironolak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Blokator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ß recept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 rot="2943000">
            <a:off x="2057400" y="243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62326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 rot="18112800">
            <a:off x="6095880" y="243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05084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562284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57913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1736640" y="498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"/>
          <p:cNvSpPr/>
          <p:nvPr/>
        </p:nvSpPr>
        <p:spPr>
          <a:xfrm>
            <a:off x="2286000" y="51055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699160" y="521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9"/>
          <p:cNvSpPr/>
          <p:nvPr/>
        </p:nvSpPr>
        <p:spPr>
          <a:xfrm>
            <a:off x="61722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90000" y="380880"/>
            <a:ext cx="52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TOMI 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I ZNAC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J KARDIOLOGI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66880" y="1844640"/>
            <a:ext cx="445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Cijano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bo napred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amar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Tahip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Sinko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Palpit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Bol u grud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Šum slučajno otkr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KAT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HOLAM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640" y="2327400"/>
            <a:ext cx="815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mulaci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utna dekompen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Oprez kod PAH (bolji Dobuta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isok bazični nivo simpatičke neurohumoralne aktivnosti kod 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esenzibilizaci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regulac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RTERIJSKI PRITIS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lpacija pulseva nije dovoljna kod Co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enje pritiska na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sva 4 ekstrem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vin manometar-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/3 nadlaktic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3,5,7,12,18 cm manžet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i Korotkoffov ton-sistolni pritis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n postaje prigušen pre nego se izgubi-prigušeni ton je dijastolni pritisak ili izmeđ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Pritisak na nogama veći za 10 mmHg nego na ruk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 zavisi od uzrasta, TT i TV (tabe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um zdravog srca (bezazlen šu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 se pri febri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rmalan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rmalana 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ubi se sa godi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G, EHO, RO-norma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jasniti rod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Diagram 5"/>
          <p:cNvGrpSpPr/>
          <p:nvPr/>
        </p:nvGrpSpPr>
        <p:grpSpPr>
          <a:xfrm>
            <a:off x="1049400" y="853920"/>
            <a:ext cx="7044840" cy="3536280"/>
            <a:chOff x="1049400" y="853920"/>
            <a:chExt cx="7044840" cy="3536280"/>
          </a:xfrm>
        </p:grpSpPr>
        <p:sp>
          <p:nvSpPr>
            <p:cNvPr id="60" name="_s1028"/>
            <p:cNvSpPr/>
            <p:nvPr/>
          </p:nvSpPr>
          <p:spPr>
            <a:xfrm>
              <a:off x="3619440" y="1482120"/>
              <a:ext cx="1904760" cy="1794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3619440" y="853920"/>
              <a:ext cx="19047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ЦИЈАНОЗ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ОКСИМЕТ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0"/>
            <p:cNvSpPr/>
            <p:nvPr/>
          </p:nvSpPr>
          <p:spPr>
            <a:xfrm>
              <a:off x="4245480" y="2506320"/>
              <a:ext cx="1905120" cy="17946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6189480" y="3942000"/>
              <a:ext cx="1904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ЕК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Хипертроф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Десне ком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Леве ком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Бивентрикулар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2991240" y="2504160"/>
              <a:ext cx="1904760" cy="17949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1049400" y="3942000"/>
              <a:ext cx="1904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ЛУЋНА ВАСКУЛАРНА ША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Повећа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Нормал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Смањ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РЕНДГЕН ПЛУЋ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6"/>
          <p:cNvSpPr/>
          <p:nvPr/>
        </p:nvSpPr>
        <p:spPr>
          <a:xfrm>
            <a:off x="2761560" y="4876920"/>
            <a:ext cx="388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РЧАНИ ТОНОВИ И ШУМ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5. ЕХОКАРДИ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6. СКЕ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ГНЕТНА РЕЗОН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8. КАТЕТЕРИЗАЦИЈ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417280" y="533520"/>
            <a:ext cx="303660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НЕ СА ИЛИ Б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ИЈА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3200" y="990720"/>
            <a:ext cx="271656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Ћ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ОРМАЛ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МАЊ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УЋ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АСКУЛАТУ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572440" y="1752480"/>
            <a:ext cx="33184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ВЕНТРИКУ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ПЕРТРОФ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СМ БЕЗ ЦИЈАНОЗ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(рендген и ЕК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52480" y="1905120"/>
            <a:ext cx="5410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ЛУМНО ОПТЕРЕ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05120" y="4343400"/>
            <a:ext cx="5410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ТЕРЕЋЕЊЕ ПРИТ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8600" y="3200400"/>
            <a:ext cx="3962520" cy="64260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М СА ЛЕВО-ДЕСНИМ ША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656240" y="3200400"/>
            <a:ext cx="4296960" cy="64260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УРГИТАЦИЈА НА АВ ВАЛВУ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ДИОМИ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360960" y="5715000"/>
            <a:ext cx="2856960" cy="91692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плућне арте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арктациј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2361960" y="2971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952880" y="2971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4956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3520" y="8380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5468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700600" y="1031760"/>
            <a:ext cx="185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1271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38768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46716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434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9434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809880" y="2719440"/>
            <a:ext cx="927756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1040" descr=""/>
          <p:cNvPicPr/>
          <p:nvPr/>
        </p:nvPicPr>
        <p:blipFill>
          <a:blip r:embed="rId1"/>
          <a:stretch/>
        </p:blipFill>
        <p:spPr>
          <a:xfrm>
            <a:off x="5362560" y="38088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27432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0" y="1143000"/>
            <a:ext cx="61214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ecundum ASD (ASD/II) (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inoseptalni def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C sinus venosus (RPV u RA)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VC sinus venosus ASD –Scimitar s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onarius ASD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 CS                    komunikac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imum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Common atrum (R-L šant-cijanoza) (P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488840" y="345960"/>
            <a:ext cx="77220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5784120" y="4178160"/>
            <a:ext cx="70488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3848040" y="990720"/>
            <a:ext cx="14479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4039200" y="1600200"/>
            <a:ext cx="107820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SD/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352040" y="2666880"/>
            <a:ext cx="9763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SD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7:38:19Z</dcterms:created>
  <dc:creator>user</dc:creator>
  <dc:description/>
  <dc:language>en-US</dc:language>
  <cp:lastModifiedBy>Korisnik</cp:lastModifiedBy>
  <dcterms:modified xsi:type="dcterms:W3CDTF">2018-09-13T06:53:15Z</dcterms:modified>
  <cp:revision>3</cp:revision>
  <dc:subject/>
  <dc:title>Slide 1</dc:title>
</cp:coreProperties>
</file>